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CBA-BAB7-4207-9D13-78E4287A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FE8-FA4C-4BC6-8B0D-1D34425D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406-3E77-4343-BC25-5CF1F1BD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2EC-7E73-48C9-AFB5-CB2E8BDF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91E-1ED4-4014-BC11-2F0ABD3D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68F-5330-4040-965E-AFAB2A3E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F8E-6172-49C4-A2D2-3334F450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91A-785B-4C06-AABC-EA51D716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50B-50D9-4A1E-B188-652ABC9F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F017-2489-437E-B2F2-C2728C33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253-2E7E-4AB1-A5AD-7CE81C0C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FE8-3B9D-4D72-B667-66623842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7B27-DB89-48A6-8994-93B2F0CC5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ed=1&amp;text=&#1041;&#1083;&#1077;&#1079;%20&#1055;&#1072;&#1089;&#1082;&#1072;&#1083;&#1100;&amp;p=2&amp;img_url=coursphilosophie.free.fr%2Fimages%2Fphilosophes%2Fblaise_pascal.jpg&amp;rpt=simage" TargetMode="External"/><Relationship Id="rId3" Type="http://schemas.openxmlformats.org/officeDocument/2006/relationships/hyperlink" Target="http://images.yandex.ru/yandsearch?rpt=simage&amp;img_url=www.cs.cornell.edu%2Fgries%2Fbanquets%2Fiticse2002%2FWirth02.jpg&amp;text=&#1053;&#1080;&#1082;&#1086;&#1083;&#1072;&#1091;&#1089;%20&#1042;&#1080;&#1088;&#1090;&amp;p=0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1125360"/>
            <a:ext cx="8893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Язык программирования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urbo Pascal "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55640" y="1268280"/>
            <a:ext cx="7561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Разделы описаний 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делы операторов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языке Turbo Pascal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здел переме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описания перемен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, b, c     : 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 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де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зарезервированное слово для описания переме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 список переменных, в котором имена переменных разделяются запят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названия типов пе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тандартны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QR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озведение в 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QRT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орень квадра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BS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одуль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N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инус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S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осинус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CTAN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рктангенс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UND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круг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T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целая часть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AC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робная часть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ANDO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лучайное число из диапазона 0.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ANDOM(200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лучайное число из диапазона 0..1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начение 3.14159265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DIV 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целая часть от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MOD 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статок от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Ввод и вывод информац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во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комых данных в языке Tur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ascal используются стандар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дуры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Rea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Readl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: Read (7,18); Read(3) - список 7, 18,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 результатов программы в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urbo Pascal осуществляется дву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дартными процедурам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Writ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Writel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ператор присва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таксис оператора присва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&lt;имя переменной&gt; 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:=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&lt;выражение&gt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 k := 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 := sqr(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 := k * 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, вычисляющей произведение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Program p1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 a,b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integer; 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WriteLn('Введите два целых числа через пробел'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Ln(a,b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=a*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WriteLn('Их произведение равно ', с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ReadLn 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ать на языке Turbo Pa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ющие форму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s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4360" y="836640"/>
            <a:ext cx="759600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Решение задач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помощью среды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граммир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urbo Pascal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жде чем написать программу, уясните себе смысл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ва цель програм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данные она требу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уда поступают данн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результаты должна выдавать програм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ймите задач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для это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ите дан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ите неизвест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, достаточно ли данных для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ьте, не противоречивы ли 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оставьте п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Обратите внимание на следующие мом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 решения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помните, встречалась ли вам уже такая задач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умайте, не знаете ли вы близкой задачи, алгоритмом решения которой можно воспользова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новите можете ли вы решить часть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полните п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уйте своему плану решения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яйте правильность каждого ш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анализируйте реш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, все ли данные вы использова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ьте правильность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ьте вводимые данные на обоснованность и правдоподоб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едите результаты в удобной для чте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66160" y="689040"/>
            <a:ext cx="7806240" cy="4999680"/>
            <a:chOff x="866160" y="689040"/>
            <a:chExt cx="7806240" cy="4999680"/>
          </a:xfrm>
        </p:grpSpPr>
        <p:grpSp>
          <p:nvGrpSpPr>
            <p:cNvPr id="44" name=""/>
            <p:cNvGrpSpPr/>
            <p:nvPr/>
          </p:nvGrpSpPr>
          <p:grpSpPr>
            <a:xfrm>
              <a:off x="866160" y="689040"/>
              <a:ext cx="7806240" cy="4999680"/>
              <a:chOff x="866160" y="689040"/>
              <a:chExt cx="7806240" cy="499968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866160" y="689040"/>
                <a:ext cx="7806240" cy="4645440"/>
                <a:chOff x="866160" y="689040"/>
                <a:chExt cx="7806240" cy="464544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2338920" y="1077840"/>
                  <a:ext cx="633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338920" y="2431440"/>
                  <a:ext cx="6333480" cy="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338920" y="3786840"/>
                  <a:ext cx="633348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338920" y="5142240"/>
                  <a:ext cx="633348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 txBox="1"/>
                <p:nvPr/>
              </p:nvSpPr>
              <p:spPr>
                <a:xfrm>
                  <a:off x="866160" y="689040"/>
                  <a:ext cx="1179720" cy="773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33cc"/>
                        </a:solidFill>
                        <a:miter/>
                      </a:ln>
                      <a:solidFill>
                        <a:srgbClr val="b2b2b2">
                          <a:alpha val="50000"/>
                        </a:srgbClr>
                      </a:solidFill>
                      <a:effectLst>
                        <a:outerShdw dist="40186" dir="1096358" blurRad="0" rotWithShape="0">
                          <a:srgbClr val="9999ff"/>
                        </a:outerShdw>
                      </a:effectLst>
                      <a:latin typeface="Arial"/>
                    </a:rPr>
                    <a:t>1950</a:t>
                  </a:r>
                  <a:endPara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  <p:sp>
              <p:nvSpPr>
                <p:cNvPr id="51" name=""/>
                <p:cNvSpPr txBox="1"/>
                <p:nvPr/>
              </p:nvSpPr>
              <p:spPr>
                <a:xfrm>
                  <a:off x="866160" y="2044440"/>
                  <a:ext cx="1179720" cy="773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33cc"/>
                        </a:solidFill>
                        <a:miter/>
                      </a:ln>
                      <a:solidFill>
                        <a:srgbClr val="b2b2b2">
                          <a:alpha val="50000"/>
                        </a:srgbClr>
                      </a:solidFill>
                      <a:effectLst>
                        <a:outerShdw dist="40186" dir="1096358" blurRad="0" rotWithShape="0">
                          <a:srgbClr val="9999ff"/>
                        </a:outerShdw>
                      </a:effectLst>
                      <a:latin typeface="Arial"/>
                    </a:rPr>
                    <a:t>1960</a:t>
                  </a:r>
                  <a:endPara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  <p:sp>
              <p:nvSpPr>
                <p:cNvPr id="52" name=""/>
                <p:cNvSpPr txBox="1"/>
                <p:nvPr/>
              </p:nvSpPr>
              <p:spPr>
                <a:xfrm>
                  <a:off x="866160" y="3207600"/>
                  <a:ext cx="1179720" cy="773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33cc"/>
                        </a:solidFill>
                        <a:miter/>
                      </a:ln>
                      <a:solidFill>
                        <a:srgbClr val="b2b2b2">
                          <a:alpha val="50000"/>
                        </a:srgbClr>
                      </a:solidFill>
                      <a:effectLst>
                        <a:outerShdw dist="40186" dir="1096358" blurRad="0" rotWithShape="0">
                          <a:srgbClr val="9999ff"/>
                        </a:outerShdw>
                      </a:effectLst>
                      <a:latin typeface="Arial"/>
                    </a:rPr>
                    <a:t>1970</a:t>
                  </a:r>
                  <a:endPara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  <p:sp>
              <p:nvSpPr>
                <p:cNvPr id="53" name=""/>
                <p:cNvSpPr txBox="1"/>
                <p:nvPr/>
              </p:nvSpPr>
              <p:spPr>
                <a:xfrm>
                  <a:off x="866160" y="4561200"/>
                  <a:ext cx="1179720" cy="773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33cc"/>
                        </a:solidFill>
                        <a:miter/>
                      </a:ln>
                      <a:solidFill>
                        <a:srgbClr val="b2b2b2">
                          <a:alpha val="50000"/>
                        </a:srgbClr>
                      </a:solidFill>
                      <a:effectLst>
                        <a:outerShdw dist="40186" dir="1096358" blurRad="0" rotWithShape="0">
                          <a:srgbClr val="9999ff"/>
                        </a:outerShdw>
                      </a:effectLst>
                      <a:latin typeface="Arial"/>
                    </a:rPr>
                    <a:t>1980</a:t>
                  </a:r>
                  <a:endPara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54" name=""/>
              <p:cNvSpPr txBox="1"/>
              <p:nvPr/>
            </p:nvSpPr>
            <p:spPr>
              <a:xfrm>
                <a:off x="3959280" y="1148760"/>
                <a:ext cx="121068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FORTRAN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5" name=""/>
              <p:cNvSpPr txBox="1"/>
              <p:nvPr/>
            </p:nvSpPr>
            <p:spPr>
              <a:xfrm>
                <a:off x="2928240" y="2493720"/>
                <a:ext cx="103068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4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Algol 60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6" name=""/>
              <p:cNvSpPr txBox="1"/>
              <p:nvPr/>
            </p:nvSpPr>
            <p:spPr>
              <a:xfrm>
                <a:off x="4401000" y="2493720"/>
                <a:ext cx="58896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6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PL\I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7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5284800" y="2493720"/>
                <a:ext cx="76896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8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Cobol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9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6315840" y="2493720"/>
                <a:ext cx="73620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0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Lisp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1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9" name=""/>
              <p:cNvSpPr txBox="1"/>
              <p:nvPr/>
            </p:nvSpPr>
            <p:spPr>
              <a:xfrm>
                <a:off x="7199640" y="2998440"/>
                <a:ext cx="1210680" cy="33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2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BASIC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7199640" y="4007160"/>
                <a:ext cx="121068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4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Prolog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5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6021360" y="5352480"/>
                <a:ext cx="121068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6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Miranda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7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2" name=""/>
              <p:cNvSpPr txBox="1"/>
              <p:nvPr/>
            </p:nvSpPr>
            <p:spPr>
              <a:xfrm>
                <a:off x="2338920" y="2998440"/>
                <a:ext cx="768960" cy="33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8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Simula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9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3" name=""/>
              <p:cNvSpPr txBox="1"/>
              <p:nvPr/>
            </p:nvSpPr>
            <p:spPr>
              <a:xfrm>
                <a:off x="3222720" y="3839040"/>
                <a:ext cx="121104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0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Pascal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1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3222720" y="3334680"/>
                <a:ext cx="103104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2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Algol 68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2486520" y="4343760"/>
                <a:ext cx="768960" cy="33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4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Smalltalk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5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6" name=""/>
              <p:cNvSpPr txBox="1"/>
              <p:nvPr/>
            </p:nvSpPr>
            <p:spPr>
              <a:xfrm>
                <a:off x="3664800" y="4511520"/>
                <a:ext cx="76896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6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Ada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7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>
                <a:off x="3812040" y="5352480"/>
                <a:ext cx="58896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8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C+ +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9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3664440" y="1485000"/>
                <a:ext cx="736200" cy="100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01000" y="1485000"/>
                <a:ext cx="441720" cy="100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075480" y="2830320"/>
                <a:ext cx="132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990320" y="2662200"/>
                <a:ext cx="29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10680" y="2830320"/>
                <a:ext cx="0" cy="252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4401000" y="4175640"/>
                <a:ext cx="1031040" cy="11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3812040" y="4175640"/>
              <a:ext cx="29448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33400" y="3334680"/>
              <a:ext cx="0" cy="10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75480" y="4175640"/>
              <a:ext cx="88344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059280" y="285264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2852640"/>
            <a:ext cx="2174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987280" y="3357720"/>
            <a:ext cx="71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92720" y="378936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2852640"/>
            <a:ext cx="2233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771280" y="285264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им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самостоятельн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следующие 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Организовать ввод радиуса. Определить длину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апишите программу, которая запрашивает четыре целых числа и выдает на экр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му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му квадратов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ее арифметическое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му парных произ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ычислите площадь треугольника по его сторо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айдите среднее арифметическое округленных значений четыре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3300"/>
                </a:solidFill>
                <a:uFillTx/>
                <a:latin typeface="Arial"/>
              </a:rPr>
              <a:t>Домашнее задани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и записать на языке Turbo Pascal следующ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Известно, что a=1.35, b=8, c=4, d=2.88 и a=15°, b=25° 40¢, g=120°. Определ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ма параллелепипеда со сторонами a,b,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щади треугольника со сторонами b, c и углом между ними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щади параллелограмма со сторонами a, d и углом между ними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ны третьей стороны треугольника с известными двумя b, d и углом между ними 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ны гипотенузы прямоугольного треугольника с катетами c,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айдите сумму синуса дробной части отношения двух чисел и косинуса целой части этого отнош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563724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ованн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O PASC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актикум», С.А. Немлюгин, СПб.:Питер, 200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O PASC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С.А. Немлюгин, СПб.:Питер, 200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ирование на языке Паскаль: задачник / под ред.Усковой О.Ф. – СПб, Питер, 200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yandsearch?ed=1&amp;text=%D0%91%D0%BB%D0%B5%D0%B7%20%D0%9F%D0%B0%D1%81%D0%BA%D0%B0%D0%BB%D1%8C&amp;p=2&amp;img_url=coursphilosophie.free.fr%2Fimages%2Fphilosophes%2Fblaise_pascal.jpg&amp;rpt=s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ages.yandex.ru/yandsearch?rpt=simage&amp;img_url=www.cs.cornell.edu%2Fgries%2Fbanquets%2Fiticse2002%2FWirth02.jpg&amp;text=%D0%9D%D0%B8%D0%BA%D0%BE%D0%BB%D0%B0%D1%83%D1%81%20%D0%92%D0%B8%D1%80%D1%82&amp;p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Блез Паск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59280" y="1341360"/>
            <a:ext cx="3827520" cy="456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56000" y="260280"/>
            <a:ext cx="43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Николаус Ви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сновные элемен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820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еременна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ячейка (или несколько ячеек) оперативной памяти компьютера. Такой ячейке присвоено определенное имя, ее содержимое может изменяться в ходе выполнения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Констант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фиксированн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перато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задают действия, которые должна выполнять програм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сновные симв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125360"/>
          <a:ext cx="8424720" cy="4942080"/>
        </p:xfrm>
        <a:graphic>
          <a:graphicData uri="http://schemas.openxmlformats.org/drawingml/2006/table">
            <a:tbl>
              <a:tblPr/>
              <a:tblGrid>
                <a:gridCol w="2332080"/>
                <a:gridCol w="60926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латинских строчны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латинских прописных бук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 D E F G H I J K L M N O P Q R S T U V W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 d e f g h i j k l m n o p q r s t u v w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ив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циф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1 2 3 4 5 6 7 8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и опер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-   *   /   =   &lt;&gt;   &lt;   &gt;   &lt;=   &gt;=   :=  @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ранич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 ,   '   (   )   [   ]   (.  .)   {  }  (*  *)   ..   :   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фикато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  #  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Зарезервированные слов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600200"/>
          <a:ext cx="8435880" cy="4740120"/>
        </p:xfrm>
        <a:graphic>
          <a:graphicData uri="http://schemas.openxmlformats.org/drawingml/2006/table">
            <a:tbl>
              <a:tblPr/>
              <a:tblGrid>
                <a:gridCol w="2109960"/>
                <a:gridCol w="2109600"/>
                <a:gridCol w="2106720"/>
                <a:gridCol w="2109600"/>
              </a:tblGrid>
              <a:tr h="47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lut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ruct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wnt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t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li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tu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1395000" y="1881000"/>
            <a:ext cx="6858000" cy="30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19700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программ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труктура програм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11280" y="1268280"/>
          <a:ext cx="3816000" cy="5329080"/>
        </p:xfrm>
        <a:graphic>
          <a:graphicData uri="http://schemas.openxmlformats.org/drawingml/2006/table">
            <a:tbl>
              <a:tblPr/>
              <a:tblGrid>
                <a:gridCol w="3816000"/>
              </a:tblGrid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 опис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 операто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програм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уктура програм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элементы языка Паск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3:36:56Z</dcterms:created>
  <dc:creator>kylakova</dc:creator>
  <dc:description/>
  <dc:language>en-US</dc:language>
  <cp:lastModifiedBy>kylakova</cp:lastModifiedBy>
  <dcterms:modified xsi:type="dcterms:W3CDTF">2011-03-31T11:04:06Z</dcterms:modified>
  <cp:revision>8</cp:revision>
  <dc:subject/>
  <dc:title>Слайд 1</dc:title>
</cp:coreProperties>
</file>